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6CE-87D7-4D7D-8E13-4C12B21E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E1A-F147-40C3-B327-1CAFA22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B04AE-2ADB-475F-895D-46D123F1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B6DEE-B213-4E88-97C8-734D835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FF280-FFDF-48F6-A345-FB04C6F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7F20-F291-421C-9143-735CBBC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4A64F-1B6D-49AA-A585-A18F654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D7DC0-2875-45E4-B262-2FABB99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2FAFD-8773-4D29-9CCB-275BD15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A91F1-7667-46C3-AAFE-B3688168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84533-5B1B-4C04-9256-D35CD2A2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09095-D10F-4E68-8371-B511C07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89F-F052-49A8-9B55-D02858FF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04AB5-BFBC-4084-A865-EC731867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90619-254A-45C9-85E5-746B0703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9E00B-FEC8-417E-84EE-D216D9D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118D7-5610-400E-A0EC-A1F2E394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6F55C-2C18-4581-83DD-61831DDB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06EF5-3BD6-4F88-817A-03B99A0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B66A8-BE31-4789-A856-DE8CE04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EB54-2F01-4E39-AC56-D541129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6BAB3-2768-45F1-A003-7B2E669D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E64A-F60C-462E-831C-C602F30E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947-D46E-4F63-AF63-AB060788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33554-AC0B-401B-9A87-B1E3A578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9AFA1-7DF5-4212-A3E4-64AA93C2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27AC9-0556-4AE7-BDB7-B209687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1A123-C595-4C60-8A7F-5E11F075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BD963-C68B-427C-8F70-A741FACB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6603B-21F9-4A88-BFC1-43307C29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BA89E-66D2-4101-B81D-36D2492F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D72E7-641F-4FB4-9BDA-06A15EF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658F0-90C3-4CCB-904D-EAF4087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C5C30-3BA7-4F43-A37D-35A4C8B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1BD0-EF11-4C13-8B66-C885046E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1667-66E5-4627-8F17-9B53B8C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A7700-E2D0-488A-96DD-4D4970FD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B39E-6E3B-4978-872A-15DF16A0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51839-7D9D-4A46-ACE5-69ADC938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D353F-D119-4760-867A-2A9CD268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60BF5-6D31-4BAE-A263-9997ACA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239AC-37A8-4160-A106-5B6B5DBD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8F003-B535-4529-BDD3-F3C49623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74E85-754F-4482-AA84-DDADDAB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2FBB7-2178-4C3A-B683-880F9D7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155C-0D3F-4845-9125-81D83DFC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D68D1-6346-4A56-BEA3-00B3657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006FE-12E8-4B74-84D2-4665ADE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24599-CC68-4DD5-870F-08B03708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CEEC4-9E49-4AC6-99AC-0A8BC381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E432C-5029-44BB-B913-0EA6BA18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94612-7B12-4ED3-A397-CF042111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F48E7-C797-47BB-84B0-DD1E391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DCFFF-F8B7-4C6C-8A25-B921577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4BDE8-5F7C-4C2D-BCE3-154F5B7F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E0E4A-56F4-4AAB-BCBC-216FBC1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75A4-A298-4008-8873-748C4EA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00754-1E65-4568-A053-80B1F9B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04053-9AE5-441B-BD39-A888399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D4368-CACB-4E7B-A40B-9190BD60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98F19-B328-4BA7-927A-6D64CD05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E8755-CB18-47FD-983C-F212D52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D4D25-F4AD-4316-B264-64CC86F1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42EBE-0A0C-4E81-A4DE-AAE9471F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25E9B-FF43-42ED-A5A7-A86CA900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034F6-66CA-4071-90D2-EE666717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18E5B-A684-4305-B023-0109C70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B622-7363-4E5A-99DD-181CCAE5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AD611-5848-476C-8ADB-4AF525EE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B4898-3657-48DE-A080-0942C4A5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DBAD3-EDAE-4C72-A0C8-B077154A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A2ECD-5745-4557-ACF9-C95A686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1AC2F-A957-463C-9C21-CFFFFF5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10FB1-4FB2-4F98-ADAE-66ED40D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A37A3-C9CF-40E5-9E5F-EF8E030C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3CD76-5A9E-43EB-BAA2-6405805D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8E9F8-E3BF-4C01-924B-38294305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3EDE1-A523-451D-BBA1-66E910A9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AB3-3FF0-436E-80D2-6DEA8FA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909F0-EB38-4168-9B18-86A2AD8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FEC2D-6D54-41E0-BE1D-7C6C899A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C850F-7A9C-411C-AB6F-2AFEED8F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EA2A3-8963-44CB-B6B9-4B63DF0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6A724-1F50-4183-A9C3-F2946C20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27D89-A536-45A3-8565-E1533E6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5BD36-2260-4CA6-919D-FEAB345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9239F-7680-44ED-A886-87D23D5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D7EFB-9CD1-40C7-A3F5-49B3BD2D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D36B4-42BE-470B-84D9-0239530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659C-DFC3-4C3B-BB82-E1CD007B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088CB-6F6C-4E55-97B7-ADB76EDC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5C915-9E33-4439-8D92-9CFDBF15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3DB7E-00AF-45D7-B5DD-EDE12B4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69A24-64C4-48FE-AAE1-69EFC91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FFAC9-4C17-41DA-83CE-5ABAA92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3F0AF-2D09-401D-A129-4A08A2CA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B2744-DA8B-45FB-8E70-FC12F27B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D335A-0472-4E26-856D-E03177F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C6A13-DD3B-4AD7-AF03-03CA0D3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7CD3C-0C0E-497F-B8FC-CA16D6B9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A1AC-B18C-4C37-8E84-D973EA9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A516C-4E6A-4278-BC22-56EB537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12C6E-8A13-4B3D-80FA-F0E2B3CD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49249-014C-4354-A571-E07C7C6A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80AAF-C093-49BF-AB22-81C1FB2D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81886-2A34-464E-9950-1E6BFEF5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7B06E-332A-4C62-A490-95ECA66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3C785-D957-4A33-A943-19FBC001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76C12-29C0-4EF1-8405-1E308642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851D0-DF25-46AC-90B9-15FBB9AD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F6EE5-88C6-419E-BE09-9F2C693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F41-8363-478D-8697-43440CB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3E7-8835-4317-A39C-2BB3556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3B287-32F6-4CA0-A788-E9D494D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B32AC-A2AD-4AC1-8862-26C92E0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D4AF1-3A82-47B3-82AF-F7F090ED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67700-E3A3-44BB-99A2-A2711394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869B5-1F37-4DFB-9D6E-80B2044E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B8198-55D4-4F78-B169-F4A7D9FC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466CB-1454-4147-821F-2521863A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78A47-7C86-4D2C-9DCE-95FF2717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28484-5FCC-434A-B335-133E00E1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82113-0B9A-471A-8E42-ED3708B4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85F-6092-4CD9-8FB7-A2443BA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D3843-1726-4D36-8E01-2394FF3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92C5F-058A-4D07-B90D-536EAC9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C3760-0227-4E2B-8335-5C9EF598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DE50C-19E8-4322-AE21-FF99279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F8090-DBFB-4EEF-93C5-E9FB087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31701-DEA8-435E-B027-AC295713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08A4D-564F-4BCD-A766-9A8172EA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4FF12-0BAD-42BD-B53C-58F4878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2F1CC-3C4D-444C-86A3-9B29B13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5AD7F-CFF2-499D-86E7-CC9807A5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BB9-D07E-4630-8C7F-AB9995D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4AC01-3B01-4C79-AFDC-ACA9EBF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D39A7-EB86-40CE-AA4E-6EB11EF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433E9-26EA-4617-96C9-DFDC2BDA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0FA0F-6CD4-4B55-AF55-1AC3EC9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5D043-A6A6-41A8-A547-B658C157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9ACA4-03D6-49DC-8D5D-8AB3707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B1B93-31F5-4022-9A52-AE096E7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F0799-DD7C-45CD-AFFA-634C7F3D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3C38E-9799-481B-905A-BE0BD6F9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6BF5E-4CE8-43C5-83AC-4A244B84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D9ED-A40D-4B4A-9658-0AA643A3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18CCF-22F5-4293-8012-BC322C6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1AE6B-6CE7-450C-AE7F-003EC83B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6B314-D655-4C8D-8D98-E081C3C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893B0-2068-4142-896D-34E3AE4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D38DF-7ACA-4CC4-8F32-9F2F242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5134A-B6CD-4B7E-AF4B-F57F6C7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E1960-8362-4C94-8367-DC6EF27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45E50-0672-49E3-9B00-107A33F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8FC4E-D53D-4D0C-A1EA-DE0F5518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75C36-3849-4C3C-848E-7AC3A57A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7459-9AF2-4F9D-A7EB-B6EC2112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0019E-9761-4B48-9E44-F43E3B92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695CF-EDB4-4799-9EBF-AF4A7653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137F7-9AD8-4C91-8619-E1D486B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87071-825B-4679-A523-CAF1BAE2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8F6CA-ED39-4452-A1B9-7219B9D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46664-BA10-44CD-83D2-DFCE09F5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FFF27-5170-459E-AF53-DAA0DC78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606F6-59DB-46AE-96F8-D428695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A08CF-97D4-4E2E-AA78-95AF84E6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271B3-2B04-4E76-9C0E-6B3A97B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DEBC-801C-4D22-8984-63D09C17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95592-C1F1-4C57-A3D1-DB122F9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117C9-0D50-412F-BDDE-21FB0DED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76D15-8802-4121-B72C-1543E46A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9228-33B8-49E7-A3F2-3B31E8D4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0E4C-C609-4DA1-A0F2-990B35E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E175-7146-40F3-8B15-D374D78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235F-6149-4C9D-8BE6-760B151D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4B0-101E-4708-B728-C18636A2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1BC8-0089-48D4-9390-8B8AC57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9531-7BA0-4913-AB5D-167B7907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CE61-299A-4F19-A53B-CA26D13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40E3-0F20-46FA-A5FC-69644BE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E4F5-C657-4CDB-9D50-4A55D279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32C3-069B-4E43-9560-35B71D1B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7269-110A-4D33-BFF0-6BAFECDE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9404-F9D5-4F01-8ADD-70BC7A0C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0BD8-5C95-4FFD-9DCF-A9DF875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2161-B9B8-41FE-B5EC-FAC842FC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CAA-5EFA-42B4-9005-EDA90A2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1B22F-4FE5-4680-B7E6-4727B13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C193-B673-48A7-896C-1B24CC64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E8EE-D3E0-437F-A0C3-ED16F10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73A1-36A5-436A-864D-13CAEB8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705F-A387-4929-9B1F-135C378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3805-DAE1-46A2-B837-B7232EB7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B598-ABD9-453D-9CDB-3860D311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F2BA-BFDF-4540-A4CE-EEE4AF9E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0F70-0898-478B-B72B-68EF3C53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87A3-E4E2-4FCE-A400-DB76E9DF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083-A3D9-46B8-ACBC-DB13EC54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CD6E-0A25-4B39-B3DC-F5A3B27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B807-1F94-4E54-89BF-1EBF0B0D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DCF8-AD35-4459-BE75-C778A45B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91D5-8728-46B1-98BD-3051895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E6C8-8222-48B4-A241-A59FA636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BBFC-8C59-4F0F-9631-1BC014C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9926-A621-45E4-8645-D4044A5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019D-189E-46B3-A503-B508C21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58642-A9B8-42C4-B6FF-A2DF8A49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C2DE-0E14-4573-BA5F-ED7A75B5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797-1AF2-49AB-B01F-3DB748C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62E5-C69C-49F3-97AF-A44BC284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9E86-5585-453E-B51A-ED4C09C1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EAFE-6BD4-4CD8-AD16-197E694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8094-A537-49D7-8547-19AC4663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5DAF-A649-44DE-AFAC-331194D5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671A9-A28C-4048-B08D-38429120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8DF6-C300-427A-8591-C9BA78A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00A4-D6E0-453F-A658-93609977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46B8-6D36-484D-9AA1-2A96BC5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95089-147F-4D50-AA76-FF11E95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98C-379B-47E4-A615-53BFC51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5E98-DC20-43FE-832A-5FE88E3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691C-9C30-492A-981B-DCD37C4C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2A08-86E2-47BF-A4D0-A040A846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CB09-D084-46AE-BDC8-4CD0F4C5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2363-A234-4488-ABB6-889CA2FD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B88E-8CE1-44A9-957F-3B0F894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3A371-3C82-40E6-8FF4-C2FFA45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AFAE-5600-45AB-AD3C-48E861B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E0D88-A656-400F-BA62-96FF7BA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A0AA-8C2A-49F0-94AE-839FD06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1E2-B0F2-40A3-9599-F67717BC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17F3-A4AD-4A67-B2BD-263BA0C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B495C-68AE-4846-A88C-E9957B4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DCF1-57CE-4EDA-A094-3BF415E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B168-7525-4201-94AC-B775225E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9EBFB-9B93-4A72-BCEF-85E98E5B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9DC5-0D2D-407B-B704-A63C211F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6C2D-9F0B-4148-8695-091E790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85471-8536-4414-AB69-FAC4311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2707A-8DFB-4E25-851D-4AFDD1A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A988-6215-477B-87C2-6E4F596B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D0F-CD43-4565-83F4-13407A7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A586F-8BF5-4A19-8F64-D0FE8BD3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1050-4F0A-4A19-97DA-24B4D4F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5C21-AC26-4A43-8FA6-A33BAE4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DDBD-500F-41F8-9D53-28E53F3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01D85-F787-4585-88C8-4EE816C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DDAFF-0CFD-4EF4-9272-8690AE73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9DCF0-5AAF-453C-887E-A481611E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F0AB8-DE19-49E7-ACC1-ADBB542B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8F84F-B1C3-4B78-9DED-5F54C253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78808-67EF-4066-B428-84B47321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E87B-F8DF-4236-8FF4-ED298EC1D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CD6-04A3-49AC-B67E-01260618F1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BDF-326D-45C6-B6DF-C4ABB715B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BD25-A65D-470E-A02F-275FA657AC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87C-CBD9-493F-A12E-ABC5126B0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02ED-40F4-4112-ABEC-A1CEC2956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699-167C-442B-B627-821FA6308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257-D5C1-4938-9B05-584E96E63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47D6-F425-4A26-82C1-3A27111A7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AC36-297B-469C-B8F9-87930C6C5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F9DB-B037-4D8C-AE28-ABE57D8F5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51A-BD0B-49BA-B156-3774533BA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B4C2-D62C-4D03-BE6C-8475C9E35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EC4-3572-444F-8273-8DB6A00F9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821-470F-48AD-A953-83B84A43D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E52-16FC-4374-B1BC-32AC780E7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21B-79B1-4CD7-975C-1403958F3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4189-8264-4174-9001-69AAE2A739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94C-EA6B-4E2F-94D1-CB4C3E3D4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26C-CE32-4D58-AF52-E8DE41C8C7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B83-D5D2-4A0F-AFFC-862BAFD68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F90-E5EA-43F1-BCE5-B807A7A6D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E06-9C27-40BE-A888-E3E086A73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8432-DFE0-418A-8FD0-A28CF5B22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236-884E-47F8-9EA8-0CBFE01E6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023A-7DA7-4EE9-9188-174EB0C02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AF9-95BE-4148-930E-6BD5BCABE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36B7-7CFD-4858-9E81-68E038B6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5137-9AB5-496E-A6D4-F4495EC7E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ED36-5E6A-4996-BFB0-78855C8D3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28C5-9BD9-41FA-A654-3E880B37B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57A0-0360-4A2A-B7EE-00CB2C1CB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37C3-01B0-444B-A067-E5BE47BDE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EB5D-BC00-49C2-8232-750949F90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C60-B00F-4561-A2C2-D0A75A3B8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A52-A0A4-4A27-8C5D-28B8A2FAB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9E41-8740-4946-9745-FCE0F6103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C0E5-7CD9-4383-A54E-9FAEF2468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5CD-56A8-41CB-8412-31588D3B2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6267-A0FE-4F39-A753-95E4FE1FA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95400" y="2619360"/>
            <a:ext cx="8953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3" name="Picture 1" descr=""/>
          <p:cNvPicPr/>
          <p:nvPr/>
        </p:nvPicPr>
        <p:blipFill>
          <a:blip r:embed="rId1"/>
          <a:stretch/>
        </p:blipFill>
        <p:spPr>
          <a:xfrm>
            <a:off x="1157400" y="836640"/>
            <a:ext cx="6829200" cy="48006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" descr=""/>
          <p:cNvPicPr/>
          <p:nvPr/>
        </p:nvPicPr>
        <p:blipFill>
          <a:blip r:embed="rId2"/>
          <a:stretch/>
        </p:blipFill>
        <p:spPr>
          <a:xfrm>
            <a:off x="1547640" y="5699160"/>
            <a:ext cx="5248440" cy="10191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3"/>
          <a:stretch/>
        </p:blipFill>
        <p:spPr>
          <a:xfrm>
            <a:off x="2782800" y="3424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4"/>
          <a:stretch/>
        </p:blipFill>
        <p:spPr>
          <a:xfrm>
            <a:off x="3857760" y="3786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5"/>
          <a:stretch/>
        </p:blipFill>
        <p:spPr>
          <a:xfrm>
            <a:off x="2786040" y="45259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6"/>
          <a:stretch/>
        </p:blipFill>
        <p:spPr>
          <a:xfrm>
            <a:off x="2773440" y="52815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7"/>
          <a:stretch/>
        </p:blipFill>
        <p:spPr>
          <a:xfrm>
            <a:off x="2747880" y="60213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Picture 1" descr=""/>
          <p:cNvPicPr/>
          <p:nvPr/>
        </p:nvPicPr>
        <p:blipFill>
          <a:blip r:embed="rId1"/>
          <a:stretch/>
        </p:blipFill>
        <p:spPr>
          <a:xfrm>
            <a:off x="85680" y="855720"/>
            <a:ext cx="8972640" cy="47340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2" descr=""/>
          <p:cNvPicPr/>
          <p:nvPr/>
        </p:nvPicPr>
        <p:blipFill>
          <a:blip r:embed="rId2"/>
          <a:stretch/>
        </p:blipFill>
        <p:spPr>
          <a:xfrm>
            <a:off x="501480" y="570708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3"/>
          <a:stretch/>
        </p:blipFill>
        <p:spPr>
          <a:xfrm>
            <a:off x="714240" y="38019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4"/>
          <a:stretch/>
        </p:blipFill>
        <p:spPr>
          <a:xfrm>
            <a:off x="714240" y="45291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5"/>
          <a:stretch/>
        </p:blipFill>
        <p:spPr>
          <a:xfrm>
            <a:off x="714240" y="56595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9" name="Picture 1" descr=""/>
          <p:cNvPicPr/>
          <p:nvPr/>
        </p:nvPicPr>
        <p:blipFill>
          <a:blip r:embed="rId1"/>
          <a:stretch/>
        </p:blipFill>
        <p:spPr>
          <a:xfrm>
            <a:off x="747720" y="1413000"/>
            <a:ext cx="7648560" cy="13716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2"/>
          <a:stretch/>
        </p:blipFill>
        <p:spPr>
          <a:xfrm>
            <a:off x="950760" y="13572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3"/>
          <a:stretch/>
        </p:blipFill>
        <p:spPr>
          <a:xfrm>
            <a:off x="958680" y="211788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505320" y="1587600"/>
            <a:ext cx="2133360" cy="257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123840" y="2405160"/>
            <a:ext cx="8896320" cy="2895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793800" y="27226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768240" y="31021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768240" y="3500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768240" y="39196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768240" y="43387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11" descr=""/>
          <p:cNvPicPr/>
          <p:nvPr/>
        </p:nvPicPr>
        <p:blipFill>
          <a:blip r:embed="rId1"/>
          <a:stretch/>
        </p:blipFill>
        <p:spPr>
          <a:xfrm>
            <a:off x="119160" y="765000"/>
            <a:ext cx="8905680" cy="3838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2" descr=""/>
          <p:cNvPicPr/>
          <p:nvPr/>
        </p:nvPicPr>
        <p:blipFill>
          <a:blip r:embed="rId2"/>
          <a:stretch/>
        </p:blipFill>
        <p:spPr>
          <a:xfrm>
            <a:off x="468360" y="4678200"/>
            <a:ext cx="5648400" cy="1047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3" descr=""/>
          <p:cNvPicPr/>
          <p:nvPr/>
        </p:nvPicPr>
        <p:blipFill>
          <a:blip r:embed="rId3"/>
          <a:stretch/>
        </p:blipFill>
        <p:spPr>
          <a:xfrm>
            <a:off x="430200" y="5810400"/>
            <a:ext cx="5276880" cy="1047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755640" y="1143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714240" y="23320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714240" y="34830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7"/>
          <a:stretch/>
        </p:blipFill>
        <p:spPr>
          <a:xfrm>
            <a:off x="668160" y="4638600"/>
            <a:ext cx="360720" cy="316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8"/>
          <a:stretch/>
        </p:blipFill>
        <p:spPr>
          <a:xfrm>
            <a:off x="647640" y="576900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49280" y="958680"/>
            <a:ext cx="8515440" cy="885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133200" y="2068560"/>
            <a:ext cx="8877600" cy="46004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8381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476520" y="1227240"/>
            <a:ext cx="2190960" cy="257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433440" y="2732040"/>
            <a:ext cx="8277120" cy="30006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1068480" y="3879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1042920" y="4259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1042920" y="4657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1042920" y="5076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7"/>
          <a:stretch/>
        </p:blipFill>
        <p:spPr>
          <a:xfrm>
            <a:off x="1055520" y="54291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371520" y="2077920"/>
            <a:ext cx="8400960" cy="3438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1000080" y="3500280"/>
            <a:ext cx="1962360" cy="5144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4478400" y="3511440"/>
            <a:ext cx="1771560" cy="4860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4"/>
          <a:stretch/>
        </p:blipFill>
        <p:spPr>
          <a:xfrm>
            <a:off x="7215120" y="3500280"/>
            <a:ext cx="1790640" cy="457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"/>
          <p:cNvPicPr/>
          <p:nvPr/>
        </p:nvPicPr>
        <p:blipFill>
          <a:blip r:embed="rId5"/>
          <a:stretch/>
        </p:blipFill>
        <p:spPr>
          <a:xfrm>
            <a:off x="1143000" y="5072040"/>
            <a:ext cx="1743120" cy="504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7" descr=""/>
          <p:cNvPicPr/>
          <p:nvPr/>
        </p:nvPicPr>
        <p:blipFill>
          <a:blip r:embed="rId6"/>
          <a:stretch/>
        </p:blipFill>
        <p:spPr>
          <a:xfrm>
            <a:off x="4500720" y="5072040"/>
            <a:ext cx="19047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271440" y="1703520"/>
            <a:ext cx="8601120" cy="4029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2"/>
          <a:stretch/>
        </p:blipFill>
        <p:spPr>
          <a:xfrm>
            <a:off x="912960" y="20718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3"/>
          <a:stretch/>
        </p:blipFill>
        <p:spPr>
          <a:xfrm>
            <a:off x="925560" y="2844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4"/>
          <a:stretch/>
        </p:blipFill>
        <p:spPr>
          <a:xfrm>
            <a:off x="892080" y="3541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5"/>
          <a:stretch/>
        </p:blipFill>
        <p:spPr>
          <a:xfrm>
            <a:off x="925560" y="4281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6"/>
          <a:stretch/>
        </p:blipFill>
        <p:spPr>
          <a:xfrm>
            <a:off x="925560" y="502920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Picture 1" descr=""/>
          <p:cNvPicPr/>
          <p:nvPr/>
        </p:nvPicPr>
        <p:blipFill>
          <a:blip r:embed="rId1"/>
          <a:stretch/>
        </p:blipFill>
        <p:spPr>
          <a:xfrm>
            <a:off x="333360" y="1112760"/>
            <a:ext cx="8477280" cy="39718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"/>
          <p:cNvPicPr/>
          <p:nvPr/>
        </p:nvPicPr>
        <p:blipFill>
          <a:blip r:embed="rId2"/>
          <a:srcRect l="0" t="0" r="0" b="50599"/>
          <a:stretch/>
        </p:blipFill>
        <p:spPr>
          <a:xfrm>
            <a:off x="668160" y="5254560"/>
            <a:ext cx="7143840" cy="1054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1139760" y="1441440"/>
            <a:ext cx="789120" cy="3160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2786040" y="1798560"/>
            <a:ext cx="1571760" cy="3160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4143240" y="2176560"/>
            <a:ext cx="642960" cy="31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6"/>
          <a:stretch/>
        </p:blipFill>
        <p:spPr>
          <a:xfrm>
            <a:off x="3643200" y="2546280"/>
            <a:ext cx="1357560" cy="316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7"/>
          <a:stretch/>
        </p:blipFill>
        <p:spPr>
          <a:xfrm>
            <a:off x="2890800" y="2916360"/>
            <a:ext cx="1000080" cy="315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8"/>
          <a:stretch/>
        </p:blipFill>
        <p:spPr>
          <a:xfrm>
            <a:off x="925560" y="36590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9"/>
          <a:stretch/>
        </p:blipFill>
        <p:spPr>
          <a:xfrm>
            <a:off x="912960" y="522288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709560" y="1563840"/>
            <a:ext cx="7724880" cy="39528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2"/>
          <a:stretch/>
        </p:blipFill>
        <p:spPr>
          <a:xfrm>
            <a:off x="925560" y="1500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925560" y="2643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938160" y="41133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3:3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